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BBF-5B34-4DDA-B872-C539038D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67E-FCA9-4338-A373-20F7A648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BB8-1BA3-48E6-B427-79D83A3B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7F4-1490-4A50-A832-E80AA716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0797-B8A4-4B64-8BBF-3BA7DDC0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B405-2A47-4FFE-9391-2218E1AF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869C-37FD-4AA0-8C8A-B34366A7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6416-4238-451F-86E7-AB4C8787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9B1D-61BF-43B8-956C-1A4865D6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3E09-DA54-443D-9A10-E36EC870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96AD-F81E-4776-8588-8AD738AA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D90-38D9-4475-8B8A-C8643043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DB5F-7A4B-4653-8EC4-CC35C32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7E17-588F-46EB-A7D4-3E3E9246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698C-47B2-4F99-AA26-93CFD730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52B4-83D3-4608-9CC9-2F5FC6F8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8C57-2771-4EBE-BC9F-9595FD59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53B-404E-4B9C-B037-EE74C54A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F1C-6C8C-4577-8163-93B04F2A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FCE-EAEA-4093-8730-F207247D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BC2-B771-4B91-8BF2-AA64D6F6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8AC-1340-4EA0-BFC9-3C22FDB4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6DE-5BE1-4BE4-A781-8BB2A2FF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A34-165E-4C6F-9089-9C32AE73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C570-8EA4-4194-8540-3C69B221D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8CB2-6C9D-4BD7-BE00-C03DEB9C3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s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(pitfalls &amp; proper use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rbs 22: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ch ruleth over the poor, and the borrower is servant to the lend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d14538_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 Quiz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 #5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edit card debt that the average American family carries is approximat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The average American family has credit card debt of roughly $8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 Quiz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 #6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notice must a credit card company give its customers when changing the terms of the cardholder contra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They may change the terms of the contract with only 15 days no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 Quiz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 #7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is likely to trigger the universal default clause in a cardholder’s contract (meaning that the card issuer can raise the APR automatically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ent over your credit limit on another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failed to make a payment to another credi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pplied for and received a lo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ALL OF THE ABOVE 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 Quiz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 #8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regulates the national banks which issue most of the credit cards in the U.S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ffice of the Comptroller of the 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tter Business Bur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torney general in each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The OCC – part of the U.S. Treasury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 Quiz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 #9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erson’s credit card is stolen – or the number is stolen – and it is used to charge purchases, the cardholder is obligat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the credit card issuer $50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5% of the purchases charged by the th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the entire amount charged by the thief if the cardholder doesn’t notify the credit card company within 3 days of the th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You are only obligated to pay up to $50 for charges made to your card by a thi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 Quiz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 #10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a high FICO score indic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ividual is likely to pay their b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ividual is more likely to carry de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ividual is likely to cancel his credit card and seek a better d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Your FICO score is your credit rating.  A high rating means you are likely to pay your b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 Quiz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 #1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are there no legal limits on the amount of interest and fees that banks can charge for a credit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tates allow higher interest and fees than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U.S. Supreme Court decisions permit banks to charge what the market will b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usury laws permit them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Two U.S. Supreme Court decisions have allowed for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ade Your Own Quiz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to 11 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ou probably have your FICO score memorized.  You’re a pr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to 9 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ou clearly know your way around a credit card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to 6 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ou need a crash course in personal finance.  Good news…we have a Sunday School Class just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to 3 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ou should dispose of your credit card(s) and use cash for the foreseeable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now Your Credit Hi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entitled to a free copy of your credit report once per ye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www.annualcreditrepor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ny of the 3 credit agencies (TransUnion, Experian, Equif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phone: 1-877-322-82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Impaired TDD: 1-877-730-41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errors correc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y Off Your Charge Car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here Can WE Earn 18 to 23 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Payments Can Take Up to 3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Money From All Sources to P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t-Em Up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s00882_" descr=""/>
          <p:cNvPicPr/>
          <p:nvPr/>
        </p:nvPicPr>
        <p:blipFill>
          <a:blip r:embed="rId1"/>
          <a:stretch/>
        </p:blipFill>
        <p:spPr>
          <a:xfrm>
            <a:off x="4952880" y="2141640"/>
            <a:ext cx="3733920" cy="333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per Use of Credit Car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them off every month!!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carry a balance – ev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 / fees / finance charges are a waste of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a positive credit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o more money than you can carry saf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ckets, hotel rooms, rental cars requir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warranties, protection from theft or da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rance for rental cars at no extra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/ discounts / rebates with some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payments are possible with credit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tfalls of Credit Card Use</a:t>
            </a: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(Be aware of these if you use them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be tempted to spend more with credit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pay finance charges or interest if you don’t pay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t can be compounded by finance charges, raised interest rates, and other fees if a payment is mi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can show up on you credit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s your credit history &amp; you will pay higher interes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 advances carry fees and immediate interest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s are higher &amp; there is no grace period for cash adv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s with incentives (airline miles, etc.) often place restrictions that make them hard to red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charge an annual fee (whether or not you use th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IZ Time!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answer the following questions, and keep track of how many you get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 Quiz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 #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redit cards does the average American family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The average American family has 8 credit 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 Quiz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 #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ly 144 million Americans have general purpose credit cards.  Approximately how many of them pay off their bill in full each mon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5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55 million Americans pay off their credit card bills in full each mo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 Quiz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 #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ly how many Americans pay only the minimum payment required each mon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35 million Americans pay only the minimum payment required each mo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dit Card Quiz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 #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edit card industry jargon for someone who pays his or her bill in full every month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adb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Those who pay their bills in full every month are referred to as “deadbeat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1:04:13Z</dcterms:created>
  <dc:creator>Mike O'Mara</dc:creator>
  <dc:description/>
  <dc:language>en-US</dc:language>
  <cp:lastModifiedBy>Mike Omara</cp:lastModifiedBy>
  <dcterms:modified xsi:type="dcterms:W3CDTF">2006-12-02T23:29:13Z</dcterms:modified>
  <cp:revision>15</cp:revision>
  <dc:subject/>
  <dc:title>Credit Cards - pitfalls &amp; proper u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01484253</vt:r8>
  </property>
  <property fmtid="{D5CDD505-2E9C-101B-9397-08002B2CF9AE}" pid="3" name="_AuthorEmail">
    <vt:lpwstr>zoe.finlay@campingandcaravanningclub.co.uk</vt:lpwstr>
  </property>
  <property fmtid="{D5CDD505-2E9C-101B-9397-08002B2CF9AE}" pid="4" name="_AuthorEmailDisplayName">
    <vt:lpwstr>Zoe Finlay</vt:lpwstr>
  </property>
  <property fmtid="{D5CDD505-2E9C-101B-9397-08002B2CF9AE}" pid="5" name="_EmailSubject">
    <vt:lpwstr>Hi</vt:lpwstr>
  </property>
  <property fmtid="{D5CDD505-2E9C-101B-9397-08002B2CF9AE}" pid="6" name="_ReviewingToolsShownOnce">
    <vt:lpwstr/>
  </property>
</Properties>
</file>